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562C-F99C-4BED-8E03-BFC7918F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EA8-D658-4476-8DD5-02933F73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45A-23F2-4C6E-AB03-930ABE40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2DA-A30C-4699-BDFE-63F19DF0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2333-8870-41FE-8D6D-8138687F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A4B2-DFC3-4D5C-A458-F35E2193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90DB-EE4F-4B5C-A8A1-602B8048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F36A-DC73-49F2-A8CF-DDDA0F2E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A879-D6B8-427B-82B3-93326BA4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2190-5950-4B53-8D8F-27AFABF8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56E7-A768-4129-A5BB-BBC0A2D5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BE1E-0908-4C0B-B0FF-1A227FF2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D8CA-EC71-4D34-91A4-555C02FD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2DF7-4B50-4AAA-8384-970C4C9A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529B-6D0E-4CE6-8617-CB63DAD5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C77B-C47A-4013-9BA2-91CFC2FD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A515-4710-477C-AAEC-077D7EDA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9FB98-49B8-454A-BFBC-ABAC2BA1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C95B2-CD98-43D3-84A6-A8B025E7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7E46-8829-4F1E-9AD6-FD61E612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E20C5-BD65-4EE4-A38D-069139BF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C3343-4817-4347-9647-227EF3EC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D70-CAC1-4DAA-901B-720C7CDC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1F510-C814-417E-B57E-7CC0D7D7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548C6-3885-4A9E-9817-B630FE92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6AD03-2E43-4047-8EB2-879D4F83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36A34-A285-4DB4-839B-6FD61431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98098-957F-4BB8-BD56-F1CFF71B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2FDB6-A58C-48E1-9225-94539728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C0F91-ED71-4992-B16A-AD6D7D85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B8173-0AFB-4FFF-948E-0E10950D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9D1AF-9DAB-45E4-82A4-F4C2815E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F5DF7-8FDF-4DA7-8A00-15E060D2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473-835C-407C-94E5-F774BC4B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8E7E0-08B0-411F-AE67-257F88A0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C0D24-357D-4FDA-87AD-EB944B6D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F03C2-C9DA-4DCE-905D-23469067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8879A-18F3-46D6-98AB-0F363D80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E3A77-FDEE-4087-ADD4-A7E5F658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EDCFF-494E-46B9-AE73-0C1336E8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4E2C1-E09B-4080-9E3E-EF68FA33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A919D-FBE5-4932-8E89-601BAD5A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BC75B-1ECE-4471-9AC1-56DD0D68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263D7-2BCB-440A-B9A7-82B8E3C2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467E-D3A8-474B-BB0F-F64E387A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CBA26-28BB-4D60-8E7A-78D749EA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47583-DC68-49E9-819C-1C14C2EE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D747C-F2D9-4E90-A12A-3A0DAA6B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7627D-81CB-4D45-901B-8D090733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1468C-5900-4056-B499-3DA6AED4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10177-6014-4B11-B685-074BDF5C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E1E96-15BC-4B82-A77E-654C6A76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BC542-6934-4683-8D65-45D59C54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55611-2353-4C0C-A50E-64FD4A62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21C4A-228C-4362-B57D-55655F4C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672-512D-4B9C-B304-F43EAA4A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86A4B-F684-4E7F-95FB-9E685E2C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B17BC-4E0A-47E8-B293-75151D75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8AFCB-16AB-4416-8C2A-899B0528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0E466-CA59-4A09-A706-5A00FFD8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B9E53-7909-484E-A7A8-5ACEA03D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7E2B3-A3EB-4ED7-9437-9C6D9E50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7CE05-61DB-4D84-9DD0-1B0A56C7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12332-F7A7-4E1F-8E14-897DDF39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B7F16-C801-499C-A9E0-29452635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038AD-4AAA-4EE8-86E3-A1724431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C33-84B3-4E3B-91B1-D65886BE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E5E57-8D24-4273-9F80-984B5C5F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B1611-A3BA-42AD-B9BB-B0B9762A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51A16-DF92-42F8-8EA3-540F5A48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0AEEF-FAA3-42B9-8ADC-5A55F9D6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DF130-F46C-4949-B11D-087A32EB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6EAF2-565F-4FD6-BCDE-C048A145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B0D2F-0F02-40F8-8B1D-1D7558F7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D46E3-F118-4678-AA16-10E54F61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A70CE-64EF-4D1B-81C6-92BBDBEA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84054-5E81-4726-963E-8D42D354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CE2-BA49-400F-AFED-CFA8604B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BCD42-2CEA-4CA4-81F2-729C88AE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D5489-341A-41C5-8E7E-8366E8F7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05922-D755-4355-B3DB-0A8D8295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B9D3F-6BC2-413F-85CF-7078944D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DB93D-1622-443C-9D1A-47B03D35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6C86A-12B5-49EE-8BF3-501C75BB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C35D3-A240-44A7-AC20-F1923D32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A488D-E211-4A86-AF7B-DA0D1F2E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42641-3A71-452C-8053-25579BE1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DFBF2-E807-4DED-9056-437D394D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87C-D6DD-404F-9A94-38B21726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F1820-ECF1-4747-A8FA-A03F7482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9A3FD-9A81-436C-A602-21395705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73D97-333E-4E23-BCF7-AD69A47B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BF61F-EA31-4B69-8A1C-41B687A1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26D26-70F5-4E7D-A764-0AD9193D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6A20F-1A55-46E1-B09C-7B57A8C2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FA0F9-054C-46BE-8ED0-B414F180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1EA2-5F7D-4549-8BD8-B1ABD381C9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E75A-6F27-4060-A76F-2E598E446DD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3164-0ED0-451D-9A7E-C4191C1DF902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A20E-F5AC-4763-8ED9-5585A80C50E2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A7CA-5602-4749-9799-BC44DC3E7B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F588-2340-46BB-974A-7FC3D6476B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4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5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BC1E-1A4F-4A59-A02B-6C0AE6B22FC8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9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9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3F37-1D83-4F5B-BDB5-68A77FBA4886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yinbiao5.com/" TargetMode="External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11280" y="2133720"/>
            <a:ext cx="40320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  <a:ea typeface="黑体"/>
              </a:rPr>
              <a:t>音 标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4653000"/>
            <a:ext cx="50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 Black"/>
                <a:hlinkClick r:id="rId2"/>
              </a:rPr>
              <a:t>www.yinbiao5.com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为您收集整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755640" y="476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成音节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-----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辅音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[m] [n] [l]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在词尾时，如果它们前面没有元音而只有辅音时，它们可以跟前面的辅音拼起来成为一个音节，叫成音节。成音节当元音使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9640" y="2852640"/>
            <a:ext cx="3313080" cy="3547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lesson [ 'le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s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table [ 'tei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bl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model [ 'mɔ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dl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Briton [ 'bri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t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garden [ 'ga: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d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84720" y="2852640"/>
            <a:ext cx="4390920" cy="342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people [ 'pi: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pl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pencil [ 'pen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sl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awful [ 'ɔ: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fl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]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可怕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rattle [ 'ræ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tl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] 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喋喋不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Marxism ['ma:ksi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Arial"/>
                <a:ea typeface="黑体"/>
              </a:rPr>
              <a:t>zm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771640" y="260280"/>
            <a:ext cx="3384720" cy="764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黑体"/>
              </a:rPr>
              <a:t>练 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1280" y="1557360"/>
            <a:ext cx="8137440" cy="144504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[bi:t]   [ga:b]   [dæʃ]   ['eiʃ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]     [bæŋk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[ti:k]    [g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ʌ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t]    [tu:</a:t>
            </a:r>
            <a:r>
              <a:rPr b="1" lang="el-GR" sz="3200" spc="-1" strike="noStrike">
                <a:solidFill>
                  <a:srgbClr val="660066"/>
                </a:solidFill>
                <a:latin typeface="Arial"/>
              </a:rPr>
              <a:t>θ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]    ['meʒ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]   [riŋ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1280" y="3789360"/>
            <a:ext cx="8281800" cy="138420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[trai]       [tr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ʌk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]    ['tʃain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]   [tʃi:p]    [si:ts]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[draiv]    [drʌg]    [d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黑体"/>
              </a:rPr>
              <a:t>ӡ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ɔb]     [d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黑体"/>
              </a:rPr>
              <a:t>ӡ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ʌd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黑体"/>
              </a:rPr>
              <a:t>ӡ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]  [b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黑体"/>
              </a:rPr>
              <a:t>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:dz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566440" y="1484280"/>
            <a:ext cx="426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闭音节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---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以一个或几个辅音字母（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r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除外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结尾的音节叫闭音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67680" y="3141720"/>
            <a:ext cx="71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黑体"/>
              </a:rPr>
              <a:t>pen    not     black     friend      w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332000" y="1052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cc"/>
                </a:solidFill>
                <a:latin typeface="Arial"/>
                <a:ea typeface="黑体"/>
              </a:rPr>
              <a:t>世上无难事，只怕有心人！只要我们用心学习、用心记忆，反复练习，就一定能把英语音标学好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11280" y="1125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英语单词由字母组成。英语字母共有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26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个，且有大、小写两种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95640" y="40464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一、字  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2421000"/>
            <a:ext cx="820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A a    B b    C c     D d     E e     F f      G 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H h    I i       J j      K k      L l      M m   N 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O o    P p    Q q     R r      S s     T t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U u    V v     W w    X x     Y y     Z 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7380360" y="5157720"/>
            <a:ext cx="155736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78480" y="1125360"/>
            <a:ext cx="13993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字  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68360" y="765000"/>
            <a:ext cx="511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、元音字母 （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个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a   e   i   o  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95640" y="2492280"/>
            <a:ext cx="6624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、辅音字母 （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21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个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b     c      d      f      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h     j       k      l       m    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p     q      r      s      t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v     w     x      y      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19280" y="1052640"/>
            <a:ext cx="360360" cy="1726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5640" y="5516640"/>
            <a:ext cx="80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注：辅音字母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y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有时也作元音字母使用，发音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i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相同。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11280" y="549360"/>
            <a:ext cx="8064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英语单词是由元音字母和辅音字母一起构成的，而元音字母是构成单词的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基本要素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。有时一个元音字母可以单独构成一个单词，如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I (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我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，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a (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一个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等。但辅音字母不能单独构成单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4365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英语单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987640" y="3789360"/>
            <a:ext cx="2305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元音字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辅音字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400536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372360" y="3141720"/>
            <a:ext cx="194292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、音 素、音 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1341360"/>
            <a:ext cx="7777080" cy="19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英语字母虽然有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26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个，但由它们发出的音却有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48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个。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48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个音就是英语的音素。音素是语音的最小单位。记录音素的工具就是音标。音标是音素的标音符号，是记音的工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大多数音标与小写字母形状相同，为了避免混淆，我们一律把音标写在方括号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[  ]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95280" y="2133720"/>
            <a:ext cx="122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(48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79640" y="1557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 Black"/>
              </a:rPr>
              <a:t>元音</a:t>
            </a:r>
            <a:r>
              <a:rPr b="1" lang="zh-CN" sz="1800" spc="-1" strike="noStrike">
                <a:solidFill>
                  <a:srgbClr val="660066"/>
                </a:solidFill>
                <a:latin typeface="Arial Black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 Black"/>
              </a:rPr>
              <a:t>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20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40360" y="12682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单元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12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0360" y="206064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双元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8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72360" y="9079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长元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5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43640" y="1628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短元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7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24360" y="1484280"/>
            <a:ext cx="216000" cy="7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56360" y="1125360"/>
            <a:ext cx="216000" cy="7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24000" y="3789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辅音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(28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84720" y="3429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清辅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11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284720" y="4221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浊辅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8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068720" y="364500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19280" y="1916280"/>
            <a:ext cx="431640" cy="2089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6588000" y="3429000"/>
            <a:ext cx="1930680" cy="30686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1765440" cy="15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79280" y="2133720"/>
            <a:ext cx="86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32000" y="98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元 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56000" y="33336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单元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12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627280" y="1628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双元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8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68360" y="549360"/>
            <a:ext cx="287640" cy="1295280"/>
          </a:xfrm>
          <a:custGeom>
            <a:avLst/>
            <a:gdLst>
              <a:gd name="textAreaLeft" fmla="*/ 183960 w 287640"/>
              <a:gd name="textAreaRight" fmla="*/ 288000 w 287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32000" y="3789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辅 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627280" y="3213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清辅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11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56000" y="42210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浊辅音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(8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个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268360" y="364500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042920" y="1268280"/>
            <a:ext cx="289080" cy="2665440"/>
          </a:xfrm>
          <a:custGeom>
            <a:avLst/>
            <a:gdLst>
              <a:gd name="textAreaLeft" fmla="*/ 184680 w 289080"/>
              <a:gd name="textAreaRight" fmla="*/ 289080 w 28908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56000" y="83664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[i:] [ i ] [e] [</a:t>
            </a: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黑体"/>
              </a:rPr>
              <a:t>æ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[u:] [u] [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ɔ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:] [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ɔ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[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ә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:] [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ә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[a:] [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ʌ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27280" y="2133720"/>
            <a:ext cx="65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[ ei ] [ ai ] [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ɔ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i ] [ au ] [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ә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u ] [ i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ә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 ] [ </a:t>
            </a:r>
            <a:r>
              <a:rPr b="1" lang="el-GR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ε</a:t>
            </a:r>
            <a:r>
              <a:rPr b="1" lang="ru-RU" sz="2800" spc="-1" strike="noStrike">
                <a:solidFill>
                  <a:srgbClr val="000099"/>
                </a:solidFill>
                <a:latin typeface="Palatino Linotype"/>
              </a:rPr>
              <a:t>ә</a:t>
            </a:r>
            <a:r>
              <a:rPr b="1" lang="zh-CN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[ u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ә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 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627280" y="364500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[p] [t] [k] [f] [s] [</a:t>
            </a:r>
            <a:r>
              <a:rPr b="1" lang="el-GR" sz="2400" spc="-1" strike="noStrike">
                <a:solidFill>
                  <a:srgbClr val="000099"/>
                </a:solidFill>
                <a:latin typeface="Arial"/>
              </a:rPr>
              <a:t>θ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[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ʃ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[h] [ tʃ] [tr] [ts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27280" y="4724280"/>
            <a:ext cx="61200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[b] [d] [g] [v] [z] [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ð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[</a:t>
            </a:r>
            <a:r>
              <a:rPr b="1" lang="zh-CN" sz="2400" spc="-1" strike="noStrike">
                <a:solidFill>
                  <a:srgbClr val="000099"/>
                </a:solidFill>
                <a:latin typeface="MS Gothic"/>
                <a:ea typeface="MS Gothic"/>
              </a:rPr>
              <a:t>ʒ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 ] [ l ] [d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ӡ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[dr] [dz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[m] [n] [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ŋ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] [w] [ j ] [ r 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55640" y="1413000"/>
            <a:ext cx="7848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元 音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----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发音时声带振动，气流在口腔内不受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阻碍。如：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[ i: ] [ i ] [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æ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] [ e 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068640"/>
            <a:ext cx="806436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辅 音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----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发音时气流在口腔内受到阻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清辅音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---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发音时声带不振动。如：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[ p ]  [ t ] [ k ]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浊辅音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---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发音时声带振动。    如：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[ b ] [ d ] [ g ]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484360" y="18900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发音特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981000"/>
            <a:ext cx="2374920" cy="0"/>
          </a:xfrm>
          <a:prstGeom prst="line">
            <a:avLst/>
          </a:prstGeom>
          <a:ln cap="rnd" w="57240">
            <a:solidFill>
              <a:srgbClr val="a5002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39640" y="4221000"/>
            <a:ext cx="144720" cy="576360"/>
          </a:xfrm>
          <a:custGeom>
            <a:avLst/>
            <a:gdLst>
              <a:gd name="textAreaLeft" fmla="*/ 92520 w 144720"/>
              <a:gd name="textAreaRight" fmla="*/ 145080 w 144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856800" y="2492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开音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340000" y="836640"/>
            <a:ext cx="71280" cy="2665440"/>
          </a:xfrm>
          <a:custGeom>
            <a:avLst/>
            <a:gdLst>
              <a:gd name="textAreaLeft" fmla="*/ 45720 w 71280"/>
              <a:gd name="textAreaRight" fmla="*/ 71640 w 7128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51160" y="620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绝对开音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24240" y="2997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相对开音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76760" y="13413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（在元音字母后面没有辅音字母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42920" y="2060640"/>
            <a:ext cx="415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go   be     me      do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670920" y="3789360"/>
            <a:ext cx="358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在元音字母后有一个辅音字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  “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r”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除外，还有一个不发音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字母  “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e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51480" y="5435640"/>
            <a:ext cx="44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name     time     base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3:34:49Z</dcterms:created>
  <dc:creator>JUJUMAO</dc:creator>
  <dc:description/>
  <dc:language>en-US</dc:language>
  <cp:lastModifiedBy>Microsoft</cp:lastModifiedBy>
  <dcterms:modified xsi:type="dcterms:W3CDTF">2013-12-14T01:16:10Z</dcterms:modified>
  <cp:revision>64</cp:revision>
  <dc:subject/>
  <dc:title>幻灯片 1</dc:title>
</cp:coreProperties>
</file>