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7CD-66BC-483C-A537-C99591E5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E81-AED5-4B64-BB53-D22817EB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11F-388F-4516-B691-D970C591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E33-A505-470B-AF10-E3DB9A2E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684-B29B-4BAA-A37D-660D426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2B3-1B68-48CB-9262-491DBF20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C2C-8DDB-40D4-9C5D-0C4718A4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368-116D-481A-B29A-0365C7C2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4B8-9BAF-4EF1-B0FF-B8CC57FC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62D-9980-4E1A-87B0-6E55533E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125-E10A-4A9A-961D-70686D90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DAD-8123-4215-950B-B4AD9DB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5441-E4FD-4DEF-A60D-CCF56C0F0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48688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相邻两词中的前一个词是以辅音结尾，后一个词是以元音开头，这就要将辅音与元音拼起来连读。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62064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连读的条件：相邻的两词在意义上必须密切相关，同属一个意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4560" y="165276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1.“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辅音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元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14680" y="1842480"/>
            <a:ext cx="58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辅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s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j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相邻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被同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∫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s] + [j] → [ſ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od bless~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~you dress~yoursel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miss~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57000" y="1987200"/>
            <a:ext cx="60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辅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z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j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相邻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被同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З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z] + [j] → [З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ow was~your va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says~you’re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732600"/>
            <a:ext cx="75535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3.“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元音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元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如果前一个词以元音结尾，后一个词以元音开头，这两个音往往也要自然而不间断地连读到一起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o~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ou’re [juə] so~hon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~am Chine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~is very friendly to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 wants to study~Engl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ow~and why did you come he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 can’t carry~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t’ll take you three~hours to walk t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question is too~easy for him to answer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0000" y="712440"/>
            <a:ext cx="76345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4. 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辅音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辅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爆破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p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b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t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d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k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g/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和摩擦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f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v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W/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其中任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个相临时，前一个音会轻音化，即由相关的发音器官做好这个发音的姿势，稍做停顿后即发后面的音。 如果这些音在词尾，也要轻音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(t)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ntac(t)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a(d) told)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(ge)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o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)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girl in the re(d) coat was on a bla(ck) bike jus(t) n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bi(g) bus from the fa(c)tory is full of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(t) time does he get up every morn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is is an ol(d) pi(c)ture of a bi(g)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ol(d) do(c)tor has a ca(t), to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92200" y="1409040"/>
            <a:ext cx="66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e’re going to work on a farm nex(t) Tues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t would you like, ho(t) tea or bla(ck) coff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t’s a very col(d) day, but it’s a goo(d)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ou can put i(t) down in the bi(g) gard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bought a chea(p) book, but it’s a goo(d) 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wen(t) there alone a(t) nine las(t) n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Do you know his bi(ke) numb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Sorry, I don’(t) kn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forty-firs(t) lesson is qui(te) diffic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needs a lot o(f) 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6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1770840"/>
            <a:ext cx="70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如果前词尾辅音与后词尾辅音相同，前辅音省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was× so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have got× to go.→I have gotta go.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t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轻音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o~you want× to dance? →do you wanna dance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(t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轻音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1486440"/>
            <a:ext cx="6731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当短语或从句之间按意群进行停顿时，意群与意群之间即使有两个相邻的辅音与元音出现，也不可连读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~it a~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hat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a cat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间不可以连读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re~is~a good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boo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my desk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oo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间不可以连读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you speak~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Engli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French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ngli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间不可以连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all we meet at~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eigh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ten tomorrow morning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e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间不可以连读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 opened the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do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walked~in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o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之间不可以连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35840" y="506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不可连读的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98280" y="1317960"/>
            <a:ext cx="465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I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、浊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i. [S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后面的清辅音要浊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scuss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k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浊化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g]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t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浊化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d]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ii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美音中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t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在单词的中间被浊化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d]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如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ri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听起来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ider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的发音几乎没有区别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tter—ladder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ut of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8160" y="539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补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92360" y="1890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ho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751860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566100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5734080"/>
            <a:ext cx="583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589720"/>
            <a:ext cx="76327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981000"/>
            <a:ext cx="1150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3280" y="1264320"/>
            <a:ext cx="66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II.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弱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弱读的规则一般是：元音音节弱化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ə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比如说如下几个单词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t, of, the, to, as, than, and, or, his, a, an, but, been, for, her, we, be, shall, was, the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弱读的频率达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％，其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, an, the, tha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极少用强式。 查字典会发现这些词都至少有两种读音，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for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重读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f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  <a:cs typeface="华文中宋"/>
              </a:rPr>
              <a:t>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:] 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弱读时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fə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have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be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waiting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f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ou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for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lo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is in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th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has done 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have seen</a:t>
            </a: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 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63640" y="765000"/>
            <a:ext cx="6357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ive</a:t>
            </a:r>
            <a:r>
              <a:rPr b="1" lang="zh-CN" sz="2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ake~ou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urn~of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ake~it~eas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ears~are fuz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ts~eat fish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oe bought~a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’m~an~English bo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t~is~an~old boo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t me have~a look~at~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s Black worked in~an~office yester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called~you half~an~hour~a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ut~it~on, p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ot~at~a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lease pick~it~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0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’d like~another bowl~of 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2660040"/>
            <a:ext cx="77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III.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意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一个句子可以按照意义和语法结构分成几个部分，每一个部分可称为一个意群。意群通常是一个词组或短语，当然也可以是一个词或是一个句子。停顿的单位就是意群和气群，所以停顿只能落在意群结束处，不能落在一个意群的中间（各种语流音变现象，例如同化、省音、连读以及不完全爆破等，一般只发生在意群内部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意群的划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正确划分意群是准确表达的关键。意群是根据语义、语法和语调这三个因素来划分的。从语义、语法上讲，意群必须是能够表达某种意思的一个词、一个短语、一个从句、一个分句或一个独立的句子；从语调上讲，意群必须是可以用降调、升调和平调来朗读的一个语调单位。意群与意群通常用符号“︱”分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71640" y="18511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依据语义来划分意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’m busy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一个句子即一个意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 told 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e has changed her jo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两个意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ester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went to New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y air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三个意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efore 1992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used to live in Australi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 worked as a doctor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三个意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1195200"/>
            <a:ext cx="8207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划分意群的主要依据是句中词与词的语法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偏正词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 apple, pretty girl, railway station, study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短语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 front of the building, to see a doctor, sleeping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ong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各种简短的主谓句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looks p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e’ve given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gave me a no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heard you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各种简短的从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How the prisoner escap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 a completely mystery.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语从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fact i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at nobody take it seriousl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表语从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asked m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here he can find h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宾语从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is is the roo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here Jordon had ever liv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定语从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t’s not eas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s you thin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状语从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109260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如果句子很长，上述各种结构还可以按一定的规则划分成若干意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t can be do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 order to make su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 no one in the world goes hung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nless I visit every bookstore in town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shall not know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ether I can ge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t I w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e have two ear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 only one tongu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 order that we may hear m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 speak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re is a great deal differen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etween the eager ma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 wants to read a book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 the tired m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 wants a  book to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1919160"/>
            <a:ext cx="727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此外，意群的划分还同语速有关。同一个句子，语速快时划分出来的意群可以少些；语速慢时划分出来的意群可以多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ligen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 the moth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good fortune, and idlene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ver brought a man to the go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any of his best wi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ligence is the mother of good fortune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 idleness never brought a man to the goa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any of his best wi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1633320"/>
            <a:ext cx="6114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以辅音结尾的单词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+ 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开头的单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发音，与前面的辅音连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ell~her I miss~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at wil(l he) [wili]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a(s he) [zi] done~it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us(t he) [ti] 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 he [ni]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ould he [di] …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ell him to ask he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a(ve him) [vim]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32000" y="58104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r/re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元音”，如果前一个词是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或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-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结尾，后一个词是以元音开头，这时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r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但要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r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而且还要与后面的元音拼起来连读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r ever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ore over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member it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fter all       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matter of fact   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pair of shoes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swer it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pair of socks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fter all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 your own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ather and son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heer up!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s far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do it for~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1341360"/>
            <a:ext cx="51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y’re my father~and m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looked for~it here~and t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re~is a football under~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re~are some books on the des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re~is a letter for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re~are four~eg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ut where~is my cu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ere~are your brother~and si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beer~is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author~is my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lease wait for me for~a moment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212544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但是，如果一个音节的前后都有字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即使后面的词以元音开头，也不能连读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black clouds are coming nearer and nearer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ar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可连读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58920" y="1887120"/>
            <a:ext cx="6769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2.“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辅音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半元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i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英语语音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j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w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是半元音，如果前一个词是以辅音结尾，后一个词是以半元音，特别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/j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开头，此时也要连读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nk~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ii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音的同化也是一种连读的现象，两个词之间非常平滑的过渡，导致一个音受临音影响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t] [d] [s] [z]+ [j]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要发生音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58960" y="1626120"/>
            <a:ext cx="577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辅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t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j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相邻时，被同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t∫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t] + [j] → [tſ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ice to meet~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n’t~you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’ll let~you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 that~your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o, not~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7160" y="1914120"/>
            <a:ext cx="618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辅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d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j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相邻时，被同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[d] + [j] → [dЗ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d~you get there late~aga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ould~you like~a cup~of te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uld~you help me, please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3:23:49Z</dcterms:created>
  <dc:creator>USER</dc:creator>
  <dc:description/>
  <dc:language>en-US</dc:language>
  <cp:lastModifiedBy>USER</cp:lastModifiedBy>
  <dcterms:modified xsi:type="dcterms:W3CDTF">2010-03-18T01:02:40Z</dcterms:modified>
  <cp:revision>7</cp:revision>
  <dc:subject/>
  <dc:title>幻灯片 1</dc:title>
</cp:coreProperties>
</file>