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0B3-392C-4FB2-812D-32033660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6BC-C4FD-49F3-9601-4834B104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9EF-641F-4296-A918-8EA83801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8B4-356F-459C-B46D-03071377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0B40-CC29-4335-A6CC-BD5234BC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E6E-7B6F-4DB3-8CE0-0FBB9885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8609-3BF9-479D-91E8-2C6A942E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EEC8-3A72-4B70-86C0-8870310B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6581-6C45-4538-8A49-0DE13A2B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B086-19BC-4D06-B6AF-64BFD8B3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69AD-33A3-4BC8-AF35-4FC27A1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0A6-EC13-415C-AF64-1F305C85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94CE-E555-46BB-8250-D5DC5B4F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B0E7-CD3C-4298-AE0E-2BD52A4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17FE-EC1A-42A7-8D42-0F5F31AE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01D0-EDA4-4CDB-92C7-9D31564C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2F8-DD9F-48C0-91DA-1F840F25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504-31BB-4C85-B3D4-9AACA5A1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A0A-C866-4189-B374-5E62E023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D06-ECEF-4606-86F4-AF8EB7CD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665-EC22-495D-8D08-A82E88BA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989-88F6-4C4F-BD9A-05C0AD7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DF6-9A1A-421D-A395-372B5E9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EFF-0BF0-4A61-B4B7-0420111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2CD-2A88-49D7-B028-00C0264D08E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B317-4D67-4666-8ECE-BFCF56549AC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26</a:t>
            </a: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个字母发音规律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e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elephant egg bed p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f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ine friend fly foot fa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441520"/>
            <a:ext cx="85406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ɡ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gun glass glad glove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dз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age  orang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h/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hat he house han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i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fine bike  five  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is sit miss pig pictu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dз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jeep jam jacket j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k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kite cake black than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628720"/>
            <a:ext cx="8540640" cy="32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l/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音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leg left ruler flag lamp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l/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尾音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 bowl tell ol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m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am map my mouth milk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Lesson on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n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no know new han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ə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ld home nose cok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ɔ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dog not clock bo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∧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on month mother lov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p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map jeep pig pen app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kw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quite quilt qui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red radio brother racke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/s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it miss this smile book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z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nose those rose rul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/t/ it sit not that table litt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/ju: / use usually excu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/∧ / bus us sun du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/ u / put  pull  pus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v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five vase very se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51125"/>
                </a:solidFill>
                <a:latin typeface="Arial"/>
              </a:rPr>
              <a:t> </a:t>
            </a:r>
            <a:r>
              <a:rPr b="1" lang="zh-CN" sz="9600" spc="-1" strike="noStrike">
                <a:solidFill>
                  <a:srgbClr val="651125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ei/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name  cake   table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æ/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apple cat  map  am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α: /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dance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ɔ /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what  watch want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w/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e window watch wa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/ks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box  six  fo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i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my fly why by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j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yes  yellow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i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happy baby ver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Z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z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zoo   zer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720433"/>
                </a:solidFill>
                <a:latin typeface="Arial"/>
              </a:rPr>
              <a:t>元音组合</a:t>
            </a:r>
            <a:endParaRPr b="0" lang="en-US" sz="9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i  /ei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ait  pain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y /ei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ay play day sa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ε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air hair chai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al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ɔ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all small bal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a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α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farther farm ca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ea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eat please tea rea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e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ad bread read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i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heat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B[b]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book big   bag bo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ea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i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ear  hear  n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ε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9680" y="314172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 ə: 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ear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e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eet see bee feet jeep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ei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ε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e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orker teache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h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er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 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her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ε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here t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ew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ju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w  f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u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lew  gr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igh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i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right high bri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ir /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ird girl shirt thir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a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ə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oat co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[k]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cat cake cup clock ca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ng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ɔŋ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long  so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o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u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book foot goo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u: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moon ballo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ɔ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hort fork por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ə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rd world work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o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ɔ: 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door  floo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re /ɔ: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more store so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u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a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ut house mou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u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u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w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u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owl  windo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au 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now cow flow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y /ɔi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oy  to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ur 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ur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辅音组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h /θ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thank  mou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ð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is that wi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572"/>
                </a:solidFill>
                <a:latin typeface="Arial"/>
              </a:rPr>
              <a:t>C </a:t>
            </a: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/s/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ce nice pencil book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r  /t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ee train tru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dr  /d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dress drive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h /∫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irt wash shor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h /t∫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ld chair cat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k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chool  Christma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dз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andw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w /t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wo twil twen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wh /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hite wheel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h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who whose who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s /ts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jackets  kit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ds /dz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ird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元音组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i  /ei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ait  pain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y /ei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ay play day sa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ir /ε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air hair chai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l /ɔ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all small bal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r /α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farther farm ca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a 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eat please tea rea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66920" y="271296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e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ad bread read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i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heat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ar / i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ear  hear  n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ε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ear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e 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eet see bee feet jeep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ir / ε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r / 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orker teache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h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re /i 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her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ε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here t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w /ju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w  f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u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lew  gr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ight /ai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right high bri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ir /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ird girl shirt thir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572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d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desk doll dog da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a /ə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oat co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ng /ɔŋ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long  so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o /u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ook foot goo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u: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moon ballo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r / ɔ: 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short fork por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ə: /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ord world work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or /ɔ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door  floo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re /ɔ: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more store so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u / a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ut house mou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ur /ɔ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our   you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u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u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w/ əu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owl  windo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now cow flow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y /ɔi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oy  to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ur 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ur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 she meet m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辅音组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h /θ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thank  mou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ð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is that wi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r  /t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ee train tru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dr  /d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dress drive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h /∫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irt wash shor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h /t∫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ld chair cat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k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chool  Christma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dз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andw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w /t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wo twil twen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wh /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hite wheel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h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who whose who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s /ts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jackets  kit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2:30:22Z</dcterms:created>
  <dc:creator>雨林木风</dc:creator>
  <dc:description/>
  <dc:language>en-US</dc:language>
  <cp:lastModifiedBy>Microsoft</cp:lastModifiedBy>
  <dcterms:modified xsi:type="dcterms:W3CDTF">2012-08-18T02:12:34Z</dcterms:modified>
  <cp:revision>21</cp:revision>
  <dc:subject/>
  <dc:title>幻灯片 1</dc:title>
</cp:coreProperties>
</file>